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9A4B-B711-4E55-8002-C261166656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erformance tool is found in the Administrative Tools folder on the Start 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r via Control Panel). The Performance tool has three functions: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ing, viewing performance counter logs, and setting alerts. For simplicity, when 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 to the Performance tool, we are referring to the System Monitor function within the too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erformance tool can provide more information about how your system is operating t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other single utility. It includes hundreds of counters for various objects. For each maj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ic described in this book, a table of the relevant Windows performance counters 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erformance tool contains a brief description for each counter. To see the description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a counter in the Add Counter window and click the Explain button. Or open the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er Reference help file in the resource kit. For information on how to interpr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ounters to detect bottlenecks or plan capacity, see the section “Performance Monitoring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Windows 2000 Server Operations Guide, which is part of the Windows 2000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ource Kit. These chapters provide an excellent description to anyone seriously inter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understanding Windows performance. For Windows XP and Windows Server 2003 , s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indows Server 2003 Resource Kit Performance Counters Reference docu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vailable online at www.microsoft.com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gistry is the mechanism to access performance counter values on Windows, wh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ose are from operating system components or server applications. One of the side bene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roviding access to the performance counters via the registry is that remote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ing works “for free” because the registry is easily accessible remotely through the nor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ry AP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access the registry performance counter information directly by opening a special 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d HKEY_PERFORMANCE_DATA and querying values beneath it. You won’t find 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by looking in the Registry Editor; this key is available only programmatically through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 registry functions, such as RegQueryValueEx. Performance information isn’t actu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d in the registry; the registry functions use this key to locate the information from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provid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also access performance counter information by using the Performance Data Hel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DH) functions available through the Performance Data Helper API (Pdh.dl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6512-D45F-451D-AB5D-C20E84C6D6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22240" y="703440"/>
            <a:ext cx="5621400" cy="42163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6600" y="5342040"/>
            <a:ext cx="5886360" cy="33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b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Microsoft Notepad utility (Notepad.ex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the Performance tool by selecting Programs from the Start menu and then  selecting Performance from the Adminstrative Tools men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chart view if you’re in some other vie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he Add button on the toolbar to bring up the Add Counters dialog bo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process performance object, and then select counters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 privileged time/user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Click the Explain button to see the definition of the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Instances box, scroll down until you see the Notepad process (notepad/0);  select it, and click the Add butt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un TaskManager.exe, display kernel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s (globally unique identifi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I - Windows Management Instr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ction presents general approaches to performance evaluation and prediction which are then discussed in context of the Windows 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articular, we discuss performance monitor and Microsoft Management Console (mmc) tools which allow for investigation and monitoring of a multitude of performance counters throughout the system. After presenting an overview on performance counters, scheduling- and memory-related performance counters are discussed in some de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ussion of Event Tracing for Windows (ETW) and the corresponding system logging mechanisms concludes thi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EF9C-AC6B-4938-812F-3E269281D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EA3B1-7378-4085-8F25-E56FB1606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2B9C8-1479-49AA-B6D0-0A7DBD61B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EBB6-13BA-4463-8F5B-2844B8163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96198-4120-4C24-98A9-2512E59CF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39FE0-A330-41B1-864D-0553D062C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00052-88DC-4D31-9B1F-E35481AF9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D8FD-4909-4EAA-96DE-2B00F3572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44C8-945E-4AB3-B5F7-3327AFA31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DC86-695A-4E98-ABED-6BFEE956D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4523-C1AE-4525-93AB-11D3D6E02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E179D-C84E-4F71-8A18-D6589CEE3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7680-0D85-4149-9A6E-51AED157265B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760" y="2282760"/>
            <a:ext cx="7493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11: Performance Evalu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.1. System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tain System Information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th Process Explor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View-&gt;System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5943600" cy="459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87EE-9F36-49A9-A93C-037D470DA3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verview of Performance Data Collection</a:t>
            </a:r>
            <a:br>
              <a:rPr sz="4000"/>
            </a:b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4720" indent="-324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 defines performance data in terms of objects, counters, and in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erformance object is any resource, application, or service that can be meas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Monitor and Performance Logs and Alerts allow to select performance objects, counters, and instances to collect and present performanc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s have performance coun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may also have instances, which are unique copies of a particular object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all object types support multiple in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Total instance represents the sum of the values for all instances of the object for a specific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7F135-B7AA-482A-B8A2-0AA857ECB0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Vast Array of Performance Data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41708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9CCD-D9FA-4046-9E0A-889C4E8920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erformance Counter Aggregation into Performance Logs (via mmc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2CAD-9147-4E3E-B288-36CCD06773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al-time Data Collection with Performance Monito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16120" y="1625760"/>
            <a:ext cx="7510320" cy="46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BE90-F3FC-4347-81BC-AEC64AA95C4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Performance Counters - 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ategorie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Memory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 Page Read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 Page Wri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 Availabl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\ Working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\ Privat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F0A97-A962-4A3A-B6D8-7A3D262B34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Performance Counters - 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ategories (contd.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Physical and Logical Disk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% Disk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Current Disk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Sec/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Sec/W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Read By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Write By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Bytes/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Bytes/W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Read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Wri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34625-B2D4-449C-94CF-42904E9940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Performance Counters - 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ategories (contd.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Network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terface\ Bytes Total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terface\ Byte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terface\ Byte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Segment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Segment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Frame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Frame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\ Bytes Total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\ Byte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\ Byte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Segment\ % Network Uti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519C-EE82-4500-838F-00FACF9AC3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nalyzing Processor Activ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the baseline on normal workload (from several weeks to a mon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\ % Processor Time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\Processor Queue Length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ware of the Idle process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dle process runs a thread on each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easure the Idle process, use the Process(Idle)\ % Processor Time counter, or Processes tab in Task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ero idle time could mean that the processor is handling a lot of work, but it could also mean that the processor or central processing unit (CPU) is overloa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C800-D80B-4921-8F89-B4B09C0FC9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etecting Processor Bottlene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 bottlenecks are indicat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\ % Processor Time often exceeds 80 percent (and there is no compute-bound work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\ Processor Queue Length is often greater than 2 on a single-processor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ue Length is the single most important para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nd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usually high values appear for the Processor(_Total)\ Interrupts/sec or System\ Context Switches/sec cou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97621-211F-4FD8-97E3-571256184A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AB75-55DE-4574-8D11-FF93F2AC3C0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valuating Memory Usag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 reference point (or baseline) for physical memory usage under normal work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logs of memory usage over an extended period (from several weeks to a mon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vant Performance Cou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\Memory\Availabl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\Paging File(_Total)\% U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lude spikes; the range of values that seem to appear consistently constitutes you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A07AA-F59B-4C16-BF07-A4AFD383A9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etecting Memory Bottlene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 for insufficient mem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f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mory\Available By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consistently low (e.g. less than 5% of R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vailable memory is consistently low, the computer becomes unresponsiv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occupied exclusively with disk I/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paging due to low memory, the processor is idle while waiting for the disk to fin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EA07C-949B-493A-8509-59DDC5195C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Examining Disk Performanc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disk counters along with counters from other objects. The following is a list of recommended coun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calDisk\% Free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Disk Read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Disk Wri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Avg. Disk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Availabl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Cach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Pag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(All_Instances)\% Processo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\Processor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7DF3-F6F6-4B93-A110-C39D981EE3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etecting a Disk Bottleneck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g. Disk Queue Length for LogicalDisk or Physical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value of Avg. Disk Queue Length exceeds twice the number of spindles, then you are likely developing a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 volume set, a queue that is never shorter than the number of active physical disks indicates that you are developing a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that this might overstate the true length of the queue, because the counter includes both queued and in-service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31E08-EA6B-4311-AC72-BFAFEC92AF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unters by Fea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 Information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ive Server P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TP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b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et Information Services Glob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ing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ing Service Fil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699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dexing Servi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age Queu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Que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925280"/>
            <a:ext cx="403848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9807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ity of Service (QoS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ssion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S/RSVP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S/RSVP Interfa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S/RSVP 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ing and Remote Access (RR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S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S To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Replication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ReplicaCon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Replic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inal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rminal Services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 Directory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T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6720" y="990720"/>
            <a:ext cx="614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 services and apps may bring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wn performance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05D4-F210-4C96-AAB9-787CB8DDBA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Event Trac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kernel and core device drivers are instrumented  to record trace d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 Tracing for  Windows (ETW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infrastructure in the kernel that provides trace data to the user-mode fac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W is access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l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start and stop logging sessions and manages buffer p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define GUIDs for the event classes they can produce traces for; act on Controllers’ comm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lect one or more trace sessions for which the want to read  trace data (in real-time or in log fi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1070-3E35-4FB5-A537-3AEE54A1B8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TW Providers and Kernel Log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Server systems include several built-in providers in user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, Kerberos, and Net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W defines a logging session with the name NT  Kernel Logger (kernel logger) for use by the kernel and core driv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 Kernel Logger provider is implemented in the ker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39467-998A-403F-A288-2476B14310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ser mode controllers may enable kernel logger - ETW Oper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W library sends I/O control request to the WMI driver to enable tracing on a particular event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W library is implemented in \Windows\System32\Ntdll.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file logging is configured the WMI driver creates a system thread in system process that creates a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ernatively, logging may use an in-memory buf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MI driver records trace events to a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logging thread  wakes up once per second to dump the contents of the buffers to the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ce records generated for the kernel logger have a standard ETW trace event 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11640" indent="-266760"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der records timestamp, process, and thread IDs, info on event clas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11640" indent="-266760"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t classes can provide additional data specific to their ev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35E54-6037-44E5-82E4-B1CC479ECC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race and Logging Data may be accessed via mmc 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43000" y="1562040"/>
            <a:ext cx="6959520" cy="52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ED8DF-D77F-4E51-A7B3-50BC463123C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Logger Trace Cla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s classes and their generating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 I/O - disk class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 I/O - file system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Configuration - plug&amp;play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 Load/Unload - system image loader in the kern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 Faults - memory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Create/Delete - process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ad Create/Delete - process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 Activity - Configur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CP/UDP Activity - TCP/IP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W controllers/providers described in Platform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A2CF6-14D1-4061-B021-C9BC5A127D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11.1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Evaluation and Pre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s for Monitoring Windows Inte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Monitor and m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-related Performance Cou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-related Performance Cou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Event Tra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282B-CA08-424B-8C92-E3B04D778DC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Using Event Logs and Performance Counters for Optimiz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must be tuned to a work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quence of service requests, commands, I/Os that exercise th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produced by workload generators rather than real-world service pro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for replay or generation of service requests at a maximum rate so that bottlenecks can be identified in syste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orkloads are domain-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e.; TPC benchmarks and work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optimal” system configuration per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4052C-B9B4-4326-911F-F407CBB246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pter 1 - Concepts and Tool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Tool, Support Tools,  Resource Kits, pp. 25-3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pter 4 - Management Mechanism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Management Instrumentation, pp. 237-2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pter 3 - System Mechanism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Tracing for Windows, pp. 177-1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Performance Counter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counter/default.as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0C953-7EAA-43B5-8EED-6BE288E32EA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(WRK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perf – core performance logging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ex\sysinfo.c – system/process performance query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6A7E7-660E-4025-9067-6A97DED642D1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erformance Prediction and Evaluation 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ng a model of the system and then using the model to predict the system's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reflects system structure or organization as well as its workload o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d using mathematical techni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, the model may be simu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chmarking &amp;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ng behavior of a liv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efined work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64AA-3053-4BE2-B4BC-6167A11CFE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odeling Approach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tic modeling techniq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rete- and continuous-time Markov 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ueing theory, and queueing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e methods based on these techni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al analy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stochastic, measurement-based perspective to the analysis of comput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ed with discrete-event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metrics from stochastic simulations are subject to statistical analysis (as are data obtained from real syst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686E4-68D1-4920-9D8A-9804FDC245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Validity of Mode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, whether analytic or simulation, can be inaccurate or implemented incorrec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mportant aspect of any kind of performance modeling study is to validate the model and its implementation to whatever extent i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way to do this is to study a system using more than one model, e.g., a simulation model and an analytic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tic modeling of many systems is computationally dem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84F1-C6A8-44A7-AB95-877025E498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onitoring Windows -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ow to obtain Performance Data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is thoroughly instrumen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counters allow for monitoring of most kernel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tools available to dig into Windows inter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s to see internals behavior “in action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sources of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urce Kit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ugging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internal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tool packages with internals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tform Software Development Kit (SD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 Driver Development Kit (DD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124D1-7E77-47AA-ABCF-4AF264440F7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447920"/>
            <a:ext cx="868680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e Nam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g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 Moni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Flag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FLAG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dle View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D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rnel debugger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BG, K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bugging tools, Platform SDK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DD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ve Kernel Debugging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VEK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en Handl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H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urce k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 Fault Moni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F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, Resource kits,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tform SDK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ding File Mov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DMOV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ormance too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MON.MSC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built-in tool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ol Moni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OL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, Windows DDK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Explor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XP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Statistic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STA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, Windows 2000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urce kits, Platform SDK,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reskit.com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 Slic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SLIC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2000 resource kit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sk (Process) Lis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LIS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bugging tool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sk Manag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SKMG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built-in tool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DI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DI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Tools for Windows Performance Monitoring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9FC0-1A44-4196-80F8-06BA3168003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(Sysinternals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143000"/>
            <a:ext cx="55627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performance-related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s full image path, command line, environment variables, parent process, security access token, open handles, loaded DLLs &amp; mapped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80880" y="2743200"/>
            <a:ext cx="7696440" cy="39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791320" y="1066680"/>
            <a:ext cx="311148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ED9A-D533-4730-A660-C763BA4FEAE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9:27:26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9:00:41Z</dcterms:modified>
  <cp:revision>110</cp:revision>
  <dc:subject>Windows Operating Systems Internals Course</dc:subject>
  <dc:title>Unit OS 11: System Performance Evaluation</dc:title>
</cp:coreProperties>
</file>